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A6C-D744-4E92-BAD7-B0F9A6F3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5CD-7A2A-4C7D-B9A6-6AB50CB7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E0E-2055-424D-A78D-B2728CA7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C60-AAB0-406E-BD72-45EA4EB9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F67-5734-46CC-9969-7B7F0486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181-1B25-46AF-9442-BC2B38F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27F-8E96-4642-9DF8-96AD44DD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C35-2395-43AA-8683-21537B8E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E8C-6224-4A5B-8EE1-1F27A65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72A-ACD3-4F9A-B2B8-2815A5E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6F6-B8A9-458D-99FE-5D21C14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8B1-3914-4A07-9179-7DBC56D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FB2C-441F-4722-8A06-F2C25333678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راك اله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راك بنور الصّباح الحنون بلون الأزاهير فوق الغصو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سمع صوتك في كلّ صوب و اصغي اليك بقلب سك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84464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متّع عيني بكلّ الرّب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بصر فيها جمال يس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محبّة فادي تغمر نفس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تبعث فيّ التّقى و الخش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300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عرفتك دوما تشع ضياء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و فوق الصّليب رجاء الفد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سكنت فؤادي و نوّرت فك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زال عذابي و زال الشّق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70028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 (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Personal</cp:lastModifiedBy>
  <dcterms:modified xsi:type="dcterms:W3CDTF">2008-04-24T05:16:04Z</dcterms:modified>
  <cp:revision>7</cp:revision>
  <dc:subject/>
  <dc:title>Slide 1</dc:title>
</cp:coreProperties>
</file>